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5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ftr" idx="5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 type="sldNum" idx="5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C526-DB8E-4A59-9DBE-AB9661BE60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8DF7-B1F5-42B2-8FF3-92EF9A1E6C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A940-EF4D-4EC4-8A2F-958A302D92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3CB3-B97D-4458-8E9C-DB76F4A860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7234-4A81-4AFE-B5F1-7D524169A1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F834-95E0-48DA-A8FC-6B93541E4A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C470-FED1-40DA-8F99-F9EBBDAF52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87A2-5E01-42FA-9E86-521961729B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D4A-3B05-4389-8035-A8D9F2B9B8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7881-4448-4063-A531-D458488169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250C-DB28-4D3C-A002-14F2495D7D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E776-D2F4-4194-B2A3-18CF9C5A59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8F43-285A-40F2-8275-6ABF53CC51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13E2-5BDF-4692-8C59-F3CF6BE3F7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7E9C-1C8B-4BD2-B7D5-C714680E8D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9EF-9DB2-4B82-83B3-DC3E6E2D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C4A-2EC7-4401-8123-CA262802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D65F0-1AD0-49A3-A6DF-9CE59458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AF244-34B3-4716-9308-EFB995A7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F5D1C-389A-41D2-9DC5-F0E3B08C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F3340-D6E1-4FA8-A5B2-B018B6EE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D90FD-3DFB-43A4-BB5B-192B5D95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2A5E2-ECBD-4220-B2CA-589A7FBA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53BAB-122C-431E-A3F1-DF41A68B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B0EAD-51FC-455B-BDFC-349020BA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3D71D-E40D-43D2-990F-D340EE80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384CC-6694-4D4D-9F5A-5793C79B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66C-03CF-423C-A0E5-533C1F3F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F84B3-AC7A-454F-9086-7434B8FD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A7F5C-69FC-4734-9402-477FD9E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E2BCF-CD7C-4B71-A5E2-40F37162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463AA-1047-437D-8A35-F66B5A7E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EA17F-6710-4E16-9BC8-757CA8D8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86DBC-0B12-45CE-B29C-11F3291D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CE3E7-B287-46D9-9EC7-35361E70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402E4-0E3A-457C-9C4E-678AAE4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00611-B5EA-4514-9AA9-2C6101BF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0380D-2DEA-4604-8F8B-D0F1D91A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5F6-5376-40CF-91AE-60FB78F7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33318-DDE5-4022-B099-61878008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C6194-BE46-4165-BE14-4505C6F1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E083C-1C73-48DE-94D0-9D4892D0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63D45-312F-432B-B1CA-709FE716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86D34-6E3C-4CB2-A179-FDE37116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6E489-49FD-4746-B039-EC17D761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D30EE-8344-435B-ABA9-F0C10FD8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16D57-E530-4FD0-8C34-4C1C2CD6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AE2F0-FD3F-441E-B18A-B82CDFD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7FB1E-7827-4814-947A-A5F5AFF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C34D-FEDB-4987-93DD-94BA2AEF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34120-E7FA-44D6-937B-08AE4C3C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05163-05E8-4D4C-B2A5-1757C239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23F69-0EBB-4E3F-959B-A74455DB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81D1D-A44B-40BA-8AED-93C625E3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02C42-A9E2-416A-971C-BE261359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C6E2A-913F-4CF5-B897-740344BF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2E041-C59C-4749-9456-3F1376D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F972E-8235-4B4C-85BF-D688E80D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04576-FD47-4A70-B5DA-6C6D9E1D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0F8D5-04A7-4205-B3AF-AAA03D63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5A25-67AF-43BC-8666-AE714E15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CA591-7F5A-443A-8FF1-1A67A2F8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F06A2-B134-4022-AEAE-6A12491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85D4A-535E-48F0-8AD8-D834CC34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720FB-0A74-465A-9385-5CDD8CD5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2CE46-8AAC-4A8B-9746-6EC28395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387B6-4A70-49F2-BC0F-5CC552D4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044ED-7FF8-4AAA-8E32-4B91B9B0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2B798-7673-4FA7-8D9D-E946F7EE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DF653-290F-4D47-A6CE-2085AEE3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1EAC1-8F33-43AF-81D0-FFF3F3B9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E9A6-D37C-45D8-A2D5-31908281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79E86-DABF-418F-B9C1-2CD245F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8C37D-7E13-4066-B998-B1173448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83DE7-7BA9-43CA-9446-23AAEC48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CD5D6-1A61-4BEC-9D9D-90FE9F3B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868EC-FFAE-43DC-90F9-4C9094CA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094B7-E46A-49BA-84B8-7E537653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5ECFF-4070-490B-A229-3F21DB91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88A5B-1194-4C99-B2B4-A6CA16DF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801B4-4B7A-46A4-862E-C55F197D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3D437-35C8-4241-AB69-D9C08B8E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5EBB-FFB3-427B-B5CC-D9D76BE1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B7614-D04E-4AB1-8413-B6480718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C6149-6088-48F7-AD31-816D629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78CE2-3666-4642-A0E6-1F4698E1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92B48-138B-4193-AA38-19836ED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8B6D2-8072-48C0-92CE-2870D2E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348CB-A0CD-4C3B-A472-1F82770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AE532-59F3-4837-91B9-62E84AFB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B38B1-42CF-424C-ACC9-218C4467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187BC-2A52-4B45-9C6D-8E311505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0EB63-240A-4E69-9BA3-8C75EE67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3008-989A-491F-A856-3965AF1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D2B6D-9E2B-40DE-A7B3-132A1A7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11A2A-CFEB-4775-80C1-90F10F32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53C8E-3B39-4E25-AFB8-4477A008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8E7BD-99CD-423D-9AA1-BC85BA7F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D80B3-379A-4556-8D49-916AE4E3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D0278-FF9C-40AE-9163-078C76B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A574D-9316-48D9-B78D-906A34E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2F978-557E-4DC3-BC2E-5A522E85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71AA2-C386-45F0-9734-6B92D7EA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099A7-C70D-4880-9E54-3A1717FB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36FD-7EBA-454C-9795-C6DCD0B6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CE80B-5E49-4C1C-97FC-02F5F3B7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5BD69-326F-43EA-9423-73309219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998F1-0CCF-4B54-9B67-136B0970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68B33-9759-4B6D-90F7-43B653A7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83784B-FD99-4785-9335-CF0F459F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F9BFE-6DBB-4BB3-9E6D-07204FCA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7586F-0136-40F3-BBB0-EF27E2B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F3748-EDA4-4923-A679-7B5F3499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58CCF-1B60-4890-9536-1ECF6AF8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15110-B9D6-4B1C-95B3-D0A94486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019C-0D1E-4FB1-92FF-B2882320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FEAD5-DBFE-4DDF-A4EC-974864E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CD08C-466A-47DA-9C59-07F2C1D2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77333-7171-4ED6-88AD-C9BB18C3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7EAC4-EE25-4E25-8641-314B31D0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7B9FD-11BA-4EFF-8D0C-7E3E03BE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4271D-7FCF-42C4-A444-2FDA7AB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EB7FB-FB6E-4E5B-B418-C83BBE00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60C5A-BAC8-4151-A83F-4C3D97D8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A17FA-0932-407E-A429-4D62A5F2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9CD0C-E176-49C3-BACF-F5D5F72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45F-8889-4999-8C76-0514E4A2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DC3A-45C4-4611-AF5B-B160619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2B0F3-5826-4F2C-972F-64944EC0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60829-268E-4FD6-8950-259CD273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5EDC6-0BF1-4B71-8BCE-632C0ABF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4099A-AB52-47E6-B2E8-6AA8AD2D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1DF8A-CBEC-4FA5-A316-6C1AACD4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4F6B4-D0AF-4FE7-A811-04B18804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08CE2-61C8-4693-AB35-B5F4FF2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9DF57-580C-4159-85D3-281C5937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C8E24-97FD-4B1F-8597-CE3E246B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BFEA70-3921-4EDD-9038-11B8A05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2825-3E60-471E-AF2A-689A187E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F0A23-B896-43EC-8108-E6E35A22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70172-9B8F-43CF-8394-C73D39B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A31E1-1165-4E49-BB9E-68954EF7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A97C1-49FA-430B-93A2-6EE9B891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C5F15-32E5-45C1-A8E8-3F202DEA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BE6AC-4814-4EB6-A7AD-B4135068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B02AF-B5C5-4FD1-AEB2-A1A8F1C1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01E5-7C17-4291-B357-7ABC7403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45F0-8BB1-4A38-B122-04ED7F02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EFF9-8DCA-4D42-9F65-04D08671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8A51-B445-4863-A15E-80588608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ECDB-D825-449B-AC02-C0C4E190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505A-E8A3-4268-A0C4-F4C2A2C6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4CA7-2A5A-42AA-ACE7-C5CF8D53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1E88-8F8D-44DC-AD25-D0E68C81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498-0686-4CBC-9071-B37C417B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6B6D-E3B7-44A4-9DD4-680CF11E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F873A-72FF-4F78-954E-8D2BA8DA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238B-03F2-4DD0-A369-E472F6A5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DBA01-B39C-42AA-8C11-5E37ADFF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3216-64A6-42F6-836A-57547470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7D6D-9C07-4081-B9CB-6659EF3E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400F-7DB7-436C-820F-4186104F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DBF7D-D956-4DC0-868E-09238351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4AFD9-AF73-4E2E-B312-0B2B62CD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A050B-328D-4757-A88A-E180F050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461-3ED4-4901-8E3F-FB828C98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C2ED-A4CB-4A5C-8B82-D3D95B6F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7E8D-0086-4031-A777-00DE2994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13FD-7FA6-4B74-941E-280DFF3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50C0-52B3-4B2B-BA60-4F25B27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5E6B-B1B2-46B9-9834-0F4A9BD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B6F3-B9C8-40DF-A8F6-A0FEE16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44BC2-1C69-4C44-8115-759AF74E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6A4EE-4699-4E49-8F05-2997780A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3EC1-B35E-4D87-BFCE-58586AA2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CFC6-C4A9-4708-8BCB-7F83E02B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96D-548E-42DE-BF1B-7AE88D11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3342-1C7C-423A-8FEA-ACCEBB27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7F836-1A56-41BD-8DCE-8CB3096C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F9E96-3C5B-4507-96FA-8D97811C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07B2-A588-46A4-9AE2-ED3BEAA7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4A70F-5784-4B29-A611-943E1081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3742F-BD68-4A88-A1E1-1974940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7A71D-0BFB-4FDF-A12A-D10F251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7E9D-7DE7-483B-8005-1101E671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D8EC2-0D1E-4692-AAFB-10FF9B03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2934-454B-465C-9125-202E5CA9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A4D-4B57-42E2-A570-1C894F6A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1F6A5-6977-4314-93FB-AAE59048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D05A-B03E-4794-9617-5ED3EB03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3B2D9-8BF1-458E-8C0B-1E15608E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85704-665A-4B25-92E2-80336CDB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A2FF1-CCD0-4EFC-A959-719E907E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44F7-F6BB-4281-9160-35F73883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322C-0915-4C4C-99C6-043B417D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FFF3A-D3AB-464C-8A4B-0B931E9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47BB-15CA-4B48-BB4E-B43A6C13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CEDFE-DE55-486F-8446-73C1A8AE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400-7018-495C-B79A-199A9E61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6B54-6073-430F-A78C-B38CC0A2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93340-E810-4870-B9F8-E83A6E89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98EF4-2B92-4967-8070-3CFB1B05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EAABA-027D-4F5D-AC3F-E5A6C420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C1EC-D922-4C08-AA26-FD555EB5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73FA1-5C8D-4F94-8768-849D1C87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CDC33-8A34-4DE9-8439-39847A93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9351-8845-4AAC-973B-8766E226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A59DB-DFDA-4E7A-874A-F3BA92E2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BFBA-8CB3-4505-81C2-3DF058E8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515-533C-4000-8AAA-7D00F04A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E5010-E433-4FC6-9857-7C547AF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CA58-D9F8-418D-88AB-E8F72097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3D631-C6ED-4291-97D2-FB45098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88B6-4F48-45CA-9F94-697B4BDE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D755C-5B25-41BB-9CCC-6B87A6E2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869D7-E37E-4A80-B4A7-C086B9B6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9053B-E35A-490D-8BC4-98C41CE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2D10F-38CE-4AC5-B0A1-1F299C61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A008C-6D2B-4992-9B08-1B3C5EBA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2256D-18DE-46E6-B396-42FC06BE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3A1-5155-4520-91CD-E2EDDFFB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97320-D609-48BC-8F05-EAABE7D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76E11-24D9-4E14-8732-08576A0E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EDCA8-732C-4BBC-823C-1B2C1057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4CF9-FAAB-4E20-B61C-0863434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74ED2-1316-407F-8879-5DE03310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7AB2-B05D-4590-A276-0596D841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139A-B57F-4CF9-AE61-4B6094B1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F493A-48E2-4BBB-B3E4-4903730D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B9213-5261-4D1C-9682-DA70C932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E2F0E-7941-440E-B211-B9350541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5DAD-8529-46C0-99CA-BE5223F4824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Triangle rect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2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Connecteur droi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DB6C-3AC2-4B55-B31F-90B2761DE74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00EF-9C71-4F2E-ADE9-F83B612E6C7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6703-5FB5-4AD0-AFC9-2BB8F507A71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rme libre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rme libre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Triangle rect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53" name="Triangle rectangle 15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Connecteur droit 16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56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69E-65CF-4D0F-9F6F-503CA60E9943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riangle rect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601" name="Forme libre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orme libre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Forme libre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604" name="Forme lib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6" name="Connecteur droit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963A-0872-4B4A-AD49-E3ACC40A3DF5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Triangle rect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1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3" name="Connecteur droi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54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E390-A24B-4DFF-BEA7-151571DF79C6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414D-6FD2-424C-A53B-8220875C0A7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5A5C-E8CA-45D9-AB0E-276E3D33DB9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rme libre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rme libre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Triangle rect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82" name="Triangle rectangle 15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4" name="Connecteur droit 16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85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E52C-8897-4A20-A8BA-FCD31234D476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Triangle rect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Connecteur droi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EFE8-85B2-41E5-A8A8-0DC49D4487A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Triangle rect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Connecteur droi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C402-911D-42A6-A16B-0D3BDCF94A5F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riangle rect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3" name="Forme libre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orme libre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Forme libre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146" name="Forme lib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Connecteur droit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93B5-6510-4E3A-9CCA-F37326D414B9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rme libre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rme libre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Triangle rect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Connecteur droit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6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4A79-2127-4E4B-92AA-52428D106C3D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F425-31EA-4F3B-9890-2983242DEECD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F57B-5436-4F5A-B962-9DB7B8F5DB4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e libre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e libre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angle rect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angle rectangle 15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necteur droit 16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C690-9165-4843-A1BA-35B14E71484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riangle rect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372" name="Forme libre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orme libre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Forme libre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375" name="Forme lib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7" name="Connecteur droit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3D03-5B15-44AF-93EF-443BB6FF71EF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hyperlink" Target="mailto:abbas.aboulaye@arse.tg" TargetMode="External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hyperlink" Target="http://www.arse.tg/?p=50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8.wmf"/><Relationship Id="rId8" Type="http://schemas.openxmlformats.org/officeDocument/2006/relationships/image" Target="../media/image10.jpe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Image 8" descr="ZA101091671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836" name="Image 6" descr="i-bande bas3.jpg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23"/>
          <p:cNvSpPr/>
          <p:nvPr/>
        </p:nvSpPr>
        <p:spPr>
          <a:xfrm>
            <a:off x="7931160" y="6343560"/>
            <a:ext cx="895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5ACE-853B-49CB-A202-51133102255C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Titre 1" descr=""/>
          <p:cNvPicPr/>
          <p:nvPr/>
        </p:nvPicPr>
        <p:blipFill>
          <a:blip r:embed="rId3"/>
          <a:stretch/>
        </p:blipFill>
        <p:spPr>
          <a:xfrm>
            <a:off x="1219320" y="1987560"/>
            <a:ext cx="6705360" cy="21636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6" descr=""/>
          <p:cNvPicPr/>
          <p:nvPr/>
        </p:nvPicPr>
        <p:blipFill>
          <a:blip r:embed="rId4"/>
          <a:stretch/>
        </p:blipFill>
        <p:spPr>
          <a:xfrm>
            <a:off x="3348000" y="44280"/>
            <a:ext cx="2087640" cy="1378080"/>
          </a:xfrm>
          <a:prstGeom prst="rect">
            <a:avLst/>
          </a:prstGeom>
          <a:ln w="0">
            <a:noFill/>
          </a:ln>
        </p:spPr>
      </p:pic>
      <p:sp>
        <p:nvSpPr>
          <p:cNvPr id="841" name="Espace réservé du contenu 2"/>
          <p:cNvSpPr/>
          <p:nvPr/>
        </p:nvSpPr>
        <p:spPr>
          <a:xfrm>
            <a:off x="5580000" y="4687920"/>
            <a:ext cx="31971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Abbas ABOULA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Directeu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Tél : +228 22 22 20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E-mail : </a:t>
            </a:r>
            <a:r>
              <a:rPr b="0" lang="fr-FR" sz="1800" spc="-1" strike="noStrike" u="sng">
                <a:solidFill>
                  <a:srgbClr val="ff8119"/>
                </a:solidFill>
                <a:uFillTx/>
                <a:latin typeface="Swiss 721 Narrow SWA"/>
                <a:hlinkClick r:id="rId5"/>
              </a:rPr>
              <a:t>abbas.aboulaye@arse.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Site web : www.arse.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ous-titre 2"/>
          <p:cNvSpPr/>
          <p:nvPr/>
        </p:nvSpPr>
        <p:spPr>
          <a:xfrm>
            <a:off x="1627200" y="1197000"/>
            <a:ext cx="71215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73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f0"/>
                </a:solidFill>
                <a:latin typeface="Swiss 721 Narrow SWA"/>
              </a:rPr>
              <a:t>DEVELOPPEMENT DES ENERGIES RENOUVELABLES POUR LA FOURNITURE AU PUBL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a production d’énergie électrique </a:t>
            </a:r>
            <a:r>
              <a:rPr b="1" lang="fr-FR" sz="1800" spc="-1" strike="noStrike">
                <a:solidFill>
                  <a:srgbClr val="0070c0"/>
                </a:solidFill>
                <a:latin typeface="Swiss 721 Narrow SWA"/>
              </a:rPr>
              <a:t>à base du renouvelable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tout comme à base des sources classiques </a:t>
            </a:r>
            <a:r>
              <a:rPr b="1" lang="fr-FR" sz="1800" spc="-1" strike="noStrike">
                <a:solidFill>
                  <a:srgbClr val="0070c0"/>
                </a:solidFill>
                <a:latin typeface="Swiss 721 Narrow SWA"/>
              </a:rPr>
              <a:t>pour la revente au public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doit suivre la procédure </a:t>
            </a:r>
            <a:r>
              <a:rPr b="1" lang="fr-FR" sz="1800" spc="-1" strike="noStrike">
                <a:solidFill>
                  <a:srgbClr val="0070c0"/>
                </a:solidFill>
                <a:latin typeface="Swiss 721 Narrow SWA"/>
              </a:rPr>
              <a:t>d’appel d’offres ouvert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pour l’octroi d’une Convention de concession à signer avec l’Etat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s dispositions juridiques, techniques et financières applicables au partenariat sont définies dans ladite convention de concess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 </a:t>
            </a:r>
            <a:r>
              <a:rPr b="1" lang="fr-FR" sz="2000" spc="-1" strike="noStrike">
                <a:solidFill>
                  <a:srgbClr val="002060"/>
                </a:solidFill>
                <a:latin typeface="Swiss 721 Narrow SWA"/>
              </a:rPr>
              <a:t>contrats d’achat/vente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d’énergie électrique est négocié et signé par les concessionnaires avec l’acheteur (CEB ou CEET). </a:t>
            </a:r>
            <a:r>
              <a:rPr b="1" lang="fr-FR" sz="2000" spc="-1" strike="noStrike">
                <a:solidFill>
                  <a:srgbClr val="002060"/>
                </a:solidFill>
                <a:latin typeface="Swiss 721 Narrow SWA"/>
              </a:rPr>
              <a:t>Il n’existe pas de tarif de rachat au T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’acheteur </a:t>
            </a:r>
            <a:r>
              <a:rPr b="1" lang="fr-FR" sz="1800" spc="-1" strike="noStrike">
                <a:solidFill>
                  <a:srgbClr val="ff0000"/>
                </a:solidFill>
                <a:latin typeface="Swiss 721 Narrow SWA"/>
              </a:rPr>
              <a:t>n’a pas d’obligation de rachat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pour l’énergie électrique produite à base des sources classiques ou à base du renouvel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 Concessionnaire peut </a:t>
            </a:r>
            <a:r>
              <a:rPr b="1" lang="fr-FR" sz="1800" spc="-1" strike="noStrike">
                <a:solidFill>
                  <a:srgbClr val="0070c0"/>
                </a:solidFill>
                <a:latin typeface="Swiss 721 Narrow SWA"/>
              </a:rPr>
              <a:t>bénéficier  des avantages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prévus par le Code des investiss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08440" indent="-208440" algn="just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Image 8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939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d3c4a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I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943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ous-titre 2"/>
          <p:cNvSpPr/>
          <p:nvPr/>
        </p:nvSpPr>
        <p:spPr>
          <a:xfrm>
            <a:off x="2386080" y="1773360"/>
            <a:ext cx="5616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Swiss 721 Narrow SWA"/>
              </a:rPr>
              <a:t>EXIGENCES SUR LE RESPECT DE L’ENVIR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Les projets de production d’énergie électrique à base du renouvelable comme à base des sources classiques sont soumis à des </a:t>
            </a:r>
            <a:r>
              <a:rPr b="1" lang="fr-FR" sz="1600" spc="-1" strike="noStrike">
                <a:solidFill>
                  <a:srgbClr val="ff0000"/>
                </a:solidFill>
                <a:latin typeface="Swiss 721 Narrow SWA"/>
              </a:rPr>
              <a:t>études d’impact environnemental </a:t>
            </a: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et font l’objet d’un plan de gestion environnemental conformément aux dispositions du code de l’environnement en vigueu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L’ARSE veille à l’obtention du certificat de conformité environnemental et au respect du plan de gestion dans le cadre de la </a:t>
            </a:r>
            <a:r>
              <a:rPr b="1" lang="fr-FR" sz="1600" spc="-1" strike="noStrike">
                <a:solidFill>
                  <a:srgbClr val="ff0000"/>
                </a:solidFill>
                <a:latin typeface="Swiss 721 Narrow SWA"/>
              </a:rPr>
              <a:t>délivrance des autorisations d’exploitation et de leur contrôle</a:t>
            </a: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Image 8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947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d3c4a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V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ous-titre 2"/>
          <p:cNvSpPr/>
          <p:nvPr/>
        </p:nvSpPr>
        <p:spPr>
          <a:xfrm>
            <a:off x="1755720" y="1573200"/>
            <a:ext cx="67262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2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wiss 721 Narrow SWA"/>
              </a:rPr>
              <a:t>OBJECTIF PRINCIPAL DE LA REFO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L’ARSE a élaboré les TDR pour proposer au gouvernement une réforme du sous secteur de l’électric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 </a:t>
            </a: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L’ objectif général est de formuler et de mettre en œuvre une réforme réglementaire et institutionnelle du secteur de l’énergie de façon à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harmoniser le cadre juridique avec les engagements internationaux et sous régionaux pris par le Togo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inscrire le secteur de l’énergie dans la dynamique de la Stratégie pour la Croissance Accélérée et la Promotion de l’Emploi (SCAPE) du To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Cet objectif général se décline en 3 objectifs spécifiques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46464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46464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Image 7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955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ous-titre 2"/>
          <p:cNvSpPr/>
          <p:nvPr/>
        </p:nvSpPr>
        <p:spPr>
          <a:xfrm>
            <a:off x="5726160" y="393840"/>
            <a:ext cx="295416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d3c4a"/>
                </a:solidFill>
                <a:latin typeface="Swiss 721 Narrow SWA"/>
              </a:rPr>
              <a:t>III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959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ous-titre 2"/>
          <p:cNvSpPr/>
          <p:nvPr/>
        </p:nvSpPr>
        <p:spPr>
          <a:xfrm>
            <a:off x="2268360" y="1901880"/>
            <a:ext cx="590400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2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Swiss 721 Narrow SWA"/>
              </a:rPr>
              <a:t>OBJECTIFS SPECIFIQUES DE LA REFO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Favoriser : (i) la </a:t>
            </a:r>
            <a:r>
              <a:rPr b="1" lang="fr-FR" sz="1600" spc="-1" strike="noStrike">
                <a:solidFill>
                  <a:srgbClr val="ff0000"/>
                </a:solidFill>
                <a:latin typeface="Swiss 721 Narrow SWA"/>
              </a:rPr>
              <a:t>promotion des énergies renouvelables</a:t>
            </a: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, (ii) un meilleur encadrement des partenariats public-privé dans le secteur, (iii) la promotion de l’efficacité énergétique et (iv) la promotion de l’auto production et de l’électrification rurale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La mise en place opérationnelle d’une </a:t>
            </a:r>
            <a:r>
              <a:rPr b="1" lang="fr-FR" sz="1600" spc="-1" strike="noStrike">
                <a:solidFill>
                  <a:srgbClr val="0070c0"/>
                </a:solidFill>
                <a:latin typeface="Swiss 721 Narrow SWA"/>
              </a:rPr>
              <a:t>institution </a:t>
            </a: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chargée de l’électrification rurale et de la maitrise de l’énergie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Le renforcement de </a:t>
            </a:r>
            <a:r>
              <a:rPr b="1" lang="fr-FR" sz="1600" spc="-1" strike="noStrike">
                <a:solidFill>
                  <a:srgbClr val="7030a0"/>
                </a:solidFill>
                <a:latin typeface="Swiss 721 Narrow SWA"/>
              </a:rPr>
              <a:t>l’ indépendance </a:t>
            </a:r>
            <a:r>
              <a:rPr b="1" lang="fr-FR" sz="1600" spc="-1" strike="noStrike">
                <a:solidFill>
                  <a:srgbClr val="002060"/>
                </a:solidFill>
                <a:latin typeface="Swiss 721 Narrow SWA"/>
              </a:rPr>
              <a:t>de l’Autorité de Réglementation du Secteur de l’Electricité (ARSE) en tant qu’autorité de rég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46464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Image 7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963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d3c4a"/>
                </a:solidFill>
                <a:latin typeface="Swiss 721 Narrow SWA"/>
              </a:rPr>
              <a:t>III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967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Picture 16" descr=""/>
          <p:cNvPicPr/>
          <p:nvPr/>
        </p:nvPicPr>
        <p:blipFill>
          <a:blip r:embed="rId2"/>
          <a:stretch/>
        </p:blipFill>
        <p:spPr>
          <a:xfrm>
            <a:off x="2411280" y="115920"/>
            <a:ext cx="3673440" cy="2736720"/>
          </a:xfrm>
          <a:prstGeom prst="rect">
            <a:avLst/>
          </a:prstGeom>
          <a:ln w="0">
            <a:noFill/>
          </a:ln>
        </p:spPr>
      </p:pic>
      <p:sp>
        <p:nvSpPr>
          <p:cNvPr id="969" name="Sous-titre 2"/>
          <p:cNvSpPr/>
          <p:nvPr/>
        </p:nvSpPr>
        <p:spPr>
          <a:xfrm>
            <a:off x="1979640" y="3013200"/>
            <a:ext cx="518472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64646"/>
                </a:solidFill>
                <a:latin typeface="Swiss 721 Narrow SWA"/>
              </a:rPr>
              <a:t>MERCI POUR VOTRE AIMABLE 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464646"/>
              </a:buClr>
              <a:buFont typeface="Swiss 721 Narrow SW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464646"/>
              </a:buClr>
              <a:buFont typeface="Swiss 721 Narrow SW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Swiss 721 Narrow SW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Image 8" descr="ZA101091671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843" name="Image 6" descr="i-bande bas3.jpg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23"/>
          <p:cNvSpPr/>
          <p:nvPr/>
        </p:nvSpPr>
        <p:spPr>
          <a:xfrm>
            <a:off x="7931160" y="6343560"/>
            <a:ext cx="895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2608-2023-40D4-8A3E-48ED26EA3133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Espace réservé du contenu 2"/>
          <p:cNvSpPr/>
          <p:nvPr/>
        </p:nvSpPr>
        <p:spPr>
          <a:xfrm>
            <a:off x="1554120" y="2932200"/>
            <a:ext cx="6624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646"/>
              </a:buClr>
              <a:buSzPct val="101000"/>
              <a:buFont typeface="Swiss 721 Narrow SW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CADRE GENERAL DU SECTEUR DE L’ELECTRIC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646"/>
              </a:buClr>
              <a:buSzPct val="101000"/>
              <a:buFont typeface="Swiss 721 Narrow SW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LA REGLEMENTATION SUR LES ENERGIES RENOUVEL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64646"/>
              </a:buClr>
              <a:buSzPct val="101000"/>
              <a:buFont typeface="Swiss 721 Narrow SW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REFORMES ENVISAG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Titre 1" descr=""/>
          <p:cNvPicPr/>
          <p:nvPr/>
        </p:nvPicPr>
        <p:blipFill>
          <a:blip r:embed="rId3"/>
          <a:stretch/>
        </p:blipFill>
        <p:spPr>
          <a:xfrm>
            <a:off x="1322280" y="1901880"/>
            <a:ext cx="5407200" cy="10540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6" descr=""/>
          <p:cNvPicPr/>
          <p:nvPr/>
        </p:nvPicPr>
        <p:blipFill>
          <a:blip r:embed="rId4"/>
          <a:stretch/>
        </p:blipFill>
        <p:spPr>
          <a:xfrm>
            <a:off x="108000" y="220680"/>
            <a:ext cx="1942920" cy="982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cxnSp>
        <p:nvCxnSpPr>
          <p:cNvPr id="850" name="Connecteur droit avec flèche 26"/>
          <p:cNvCxnSpPr/>
          <p:nvPr/>
        </p:nvCxnSpPr>
        <p:spPr>
          <a:xfrm flipH="1">
            <a:off x="7308720" y="4987440"/>
            <a:ext cx="626040" cy="818280"/>
          </a:xfrm>
          <a:prstGeom prst="straightConnector1">
            <a:avLst/>
          </a:prstGeom>
          <a:ln w="57240">
            <a:solidFill>
              <a:srgbClr val="99cc00"/>
            </a:solidFill>
            <a:miter/>
            <a:tailEnd len="med" type="arrow" w="med"/>
          </a:ln>
        </p:spPr>
      </p:cxnSp>
      <p:sp>
        <p:nvSpPr>
          <p:cNvPr id="851" name="Sous-titre 2"/>
          <p:cNvSpPr/>
          <p:nvPr/>
        </p:nvSpPr>
        <p:spPr>
          <a:xfrm>
            <a:off x="1725480" y="1268280"/>
            <a:ext cx="6634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1.1 – DIFFERENTS TEXTES REGISSANT LE SECTEUR DE L’ELECTRI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 secteur de l’électricité est régi par plusieurs textes nationaux et sous régionaux notamment 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rganigramme : Multidocument 1"/>
          <p:cNvSpPr/>
          <p:nvPr/>
        </p:nvSpPr>
        <p:spPr>
          <a:xfrm>
            <a:off x="4483080" y="5357880"/>
            <a:ext cx="2719440" cy="966600"/>
          </a:xfrm>
          <a:prstGeom prst="flowChartMultidocumen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ZoneTexte 2"/>
          <p:cNvSpPr/>
          <p:nvPr/>
        </p:nvSpPr>
        <p:spPr>
          <a:xfrm>
            <a:off x="4695840" y="5705640"/>
            <a:ext cx="1936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Swiss 721 Narrow SWA"/>
              </a:rPr>
              <a:t>Secteur Electric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Connecteur droit avec flèche 15"/>
          <p:cNvCxnSpPr/>
          <p:nvPr/>
        </p:nvCxnSpPr>
        <p:spPr>
          <a:xfrm>
            <a:off x="3104640" y="5389200"/>
            <a:ext cx="1281600" cy="41652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855" name="Connecteur droit avec flèche 22"/>
          <p:cNvCxnSpPr/>
          <p:nvPr/>
        </p:nvCxnSpPr>
        <p:spPr>
          <a:xfrm>
            <a:off x="5721120" y="3922560"/>
            <a:ext cx="1080" cy="1364400"/>
          </a:xfrm>
          <a:prstGeom prst="straightConnector1">
            <a:avLst/>
          </a:prstGeom>
          <a:ln w="57240">
            <a:solidFill>
              <a:srgbClr val="da1f28"/>
            </a:solidFill>
            <a:miter/>
            <a:tailEnd len="med" type="arrow" w="med"/>
          </a:ln>
        </p:spPr>
      </p:cxnSp>
      <p:cxnSp>
        <p:nvCxnSpPr>
          <p:cNvPr id="856" name="Connecteur droit avec flèche 33"/>
          <p:cNvCxnSpPr>
            <a:stCxn id="857" idx="2"/>
          </p:cNvCxnSpPr>
          <p:nvPr/>
        </p:nvCxnSpPr>
        <p:spPr>
          <a:xfrm>
            <a:off x="3050640" y="3982680"/>
            <a:ext cx="1629720" cy="1377000"/>
          </a:xfrm>
          <a:prstGeom prst="straightConnector1">
            <a:avLst/>
          </a:prstGeom>
          <a:ln w="57240">
            <a:solidFill>
              <a:srgbClr val="d5a7b1"/>
            </a:solidFill>
            <a:miter/>
            <a:tailEnd len="med" type="arrow" w="med"/>
          </a:ln>
        </p:spPr>
      </p:cxnSp>
      <p:sp>
        <p:nvSpPr>
          <p:cNvPr id="858" name="ZoneTexte 46"/>
          <p:cNvSpPr/>
          <p:nvPr/>
        </p:nvSpPr>
        <p:spPr>
          <a:xfrm>
            <a:off x="5149800" y="2584440"/>
            <a:ext cx="1143000" cy="459000"/>
          </a:xfrm>
          <a:prstGeom prst="rect">
            <a:avLst/>
          </a:prstGeom>
          <a:solidFill>
            <a:srgbClr val="f9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Swiss 721 Narrow SWA"/>
              </a:rPr>
              <a:t>TOGO-BE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ZoneTexte 47"/>
          <p:cNvSpPr/>
          <p:nvPr/>
        </p:nvSpPr>
        <p:spPr>
          <a:xfrm>
            <a:off x="7157880" y="3645000"/>
            <a:ext cx="145260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Swiss 721 Narrow SWA"/>
              </a:rPr>
              <a:t>T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Image 27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862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f1e25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I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ZoneTexte 4"/>
          <p:cNvSpPr/>
          <p:nvPr/>
        </p:nvSpPr>
        <p:spPr>
          <a:xfrm>
            <a:off x="1531800" y="4886280"/>
            <a:ext cx="1573200" cy="55080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r>
              <a:rPr b="1" lang="fr-FR" sz="1000" spc="-1" strike="noStrike">
                <a:solidFill>
                  <a:srgbClr val="464646"/>
                </a:solidFill>
                <a:latin typeface="Swiss 721 Narrow SWA"/>
              </a:rPr>
              <a:t>PROTOCOLE A/P4/1/03 sur l’éner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ZoneTexte 21516"/>
          <p:cNvSpPr/>
          <p:nvPr/>
        </p:nvSpPr>
        <p:spPr>
          <a:xfrm>
            <a:off x="1901880" y="4348080"/>
            <a:ext cx="833400" cy="520200"/>
          </a:xfrm>
          <a:prstGeom prst="rect">
            <a:avLst/>
          </a:prstGeom>
          <a:solidFill>
            <a:srgbClr val="b5e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Swiss 721 Narrow SWA"/>
              </a:rPr>
              <a:t>CEDE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1"/>
          <p:cNvSpPr/>
          <p:nvPr/>
        </p:nvSpPr>
        <p:spPr>
          <a:xfrm>
            <a:off x="4765680" y="3068640"/>
            <a:ext cx="2074680" cy="118908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64646"/>
                </a:solidFill>
                <a:latin typeface="Swiss 721 Narrow SWA"/>
              </a:rPr>
              <a:t>Accord International portant Code bénino–togolais de l'électricité du 27 juillet 1968 et révisé du 23 décembre 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6"/>
          <p:cNvSpPr/>
          <p:nvPr/>
        </p:nvSpPr>
        <p:spPr>
          <a:xfrm>
            <a:off x="6889680" y="4065480"/>
            <a:ext cx="2016360" cy="824040"/>
          </a:xfrm>
          <a:prstGeom prst="rect">
            <a:avLst/>
          </a:prstGeom>
          <a:solidFill>
            <a:srgbClr val="ffffff"/>
          </a:solidFill>
          <a:ln w="55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64646"/>
                </a:solidFill>
                <a:latin typeface="Swiss 721 Narrow SWA"/>
              </a:rPr>
              <a:t>LOI n°2000-012 relative au secteur de l’électricité et ses décrets d’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37"/>
          <p:cNvSpPr/>
          <p:nvPr/>
        </p:nvSpPr>
        <p:spPr>
          <a:xfrm>
            <a:off x="6875640" y="4711680"/>
            <a:ext cx="2030400" cy="459000"/>
          </a:xfrm>
          <a:prstGeom prst="rect">
            <a:avLst/>
          </a:prstGeom>
          <a:solidFill>
            <a:srgbClr val="ffff00"/>
          </a:solidFill>
          <a:ln w="55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64646"/>
                </a:solidFill>
                <a:latin typeface="Swiss 721 Narrow SWA"/>
              </a:rPr>
              <a:t>Code des Invest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ZoneTexte 13"/>
          <p:cNvSpPr/>
          <p:nvPr/>
        </p:nvSpPr>
        <p:spPr>
          <a:xfrm>
            <a:off x="2154240" y="3382920"/>
            <a:ext cx="1793880" cy="763560"/>
          </a:xfrm>
          <a:prstGeom prst="rect">
            <a:avLst/>
          </a:prstGeom>
          <a:solidFill>
            <a:srgbClr val="ffff00"/>
          </a:solidFill>
          <a:ln w="55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wiss 721 Narrow SWA"/>
              </a:rPr>
              <a:t>Code des marchés publics et des délégations de service publ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ZoneTexte 73"/>
          <p:cNvSpPr/>
          <p:nvPr/>
        </p:nvSpPr>
        <p:spPr>
          <a:xfrm>
            <a:off x="2347920" y="2865600"/>
            <a:ext cx="1158840" cy="428760"/>
          </a:xfrm>
          <a:prstGeom prst="rect">
            <a:avLst/>
          </a:prstGeom>
          <a:solidFill>
            <a:srgbClr val="d7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wiss 721 Narrow SWA"/>
              </a:rPr>
              <a:t>UEMOA/T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ZoneTexte 4"/>
          <p:cNvSpPr/>
          <p:nvPr/>
        </p:nvSpPr>
        <p:spPr>
          <a:xfrm>
            <a:off x="1546200" y="5286240"/>
            <a:ext cx="1558800" cy="85536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r>
              <a:rPr b="1" lang="fr-FR" sz="1000" spc="-1" strike="noStrike">
                <a:solidFill>
                  <a:srgbClr val="464646"/>
                </a:solidFill>
                <a:latin typeface="Swiss 721 Narrow SWA"/>
              </a:rPr>
              <a:t>Directive C/DIR/1/06/13 sur l’organisation du marché régional de l’électric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ous-titre 2"/>
          <p:cNvSpPr/>
          <p:nvPr/>
        </p:nvSpPr>
        <p:spPr>
          <a:xfrm>
            <a:off x="1627200" y="1568520"/>
            <a:ext cx="6805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70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Swiss 721 Narrow SWA"/>
              </a:rPr>
              <a:t>1.1 – DIFFERENTS TEXTES REGISSANT LE SECTEUR DE L’ELECTRI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Swiss 721 Narrow SWA"/>
              </a:rPr>
              <a:t>Sur le Plan Bilatéral </a:t>
            </a:r>
            <a:r>
              <a:rPr b="1" lang="fr-FR" sz="1800" spc="-1" strike="noStrike">
                <a:solidFill>
                  <a:srgbClr val="ffffff"/>
                </a:solidFill>
                <a:latin typeface="Swiss 721 Narrow SW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 Code Bénino-togolais de l’électricité  a pour princip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a mise à la charge des Ministres chargé de l’énergie électrique des deux pays (Bénin/Togo)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’élaboration de la politique sectorielle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 ; l’évolution administrative et réglementaire , l’élaboration des schémas directeurs ;  l’approbation ou la modification des structures ou des règlements tarifaires ; la possibilité de conclure des conventions de déléga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a création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d’une société binationale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disposant de « l’exclusivité » d’exercer les activités de transport, d’importation et d’ achat de l’énergie électrique pour les besoins des deux pay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a mise à la charge es sociétés nationales, 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a distribution et la commercialisation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de l’énergie électrique sur les territoires nationaux respectif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Image 8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877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f1e25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I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ous-titre 2"/>
          <p:cNvSpPr/>
          <p:nvPr/>
        </p:nvSpPr>
        <p:spPr>
          <a:xfrm>
            <a:off x="1547640" y="1125360"/>
            <a:ext cx="7128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Swiss 721 Narrow SWA"/>
              </a:rPr>
              <a:t>1.1 – DIFFERENTS TEXTES REGISSANT LE SECTEUR DE L’ELECTRI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Swiss 721 Narrow SWA"/>
              </a:rPr>
              <a:t>Sur le Plan nation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a loi 2000-012 relative au secteur de l’électricité  a définit les principes généraux suivants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Utilisation bénéfique et rationnelle des ressources nationales pour l’extension du réseau électrique national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Développement national de l’offre d’énergie électrique en vue d’assurer une fourniture d’énergie électrique appropriée aux besoins industriels et domestiques des consommateurs 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Respect des principes de service public qui gouvernent l’activité de fourniture d’énergie électrique à des conditions financières justes et équitables 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Garantie de l’équilibre économique et financier du secteur de l’électricité ainsi que  le respect de l’environnement 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Garantie de l’indépendance des intervenants par rapport à leurs attributions, devoirs, fonctions </a:t>
            </a:r>
            <a:r>
              <a:rPr b="1" lang="fr-FR" sz="1600" spc="-1" strike="noStrike">
                <a:solidFill>
                  <a:srgbClr val="464646"/>
                </a:solidFill>
                <a:latin typeface="Swiss 721 Narrow SWA"/>
              </a:rPr>
              <a:t>et pouvoirs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6464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64646"/>
                </a:solidFill>
                <a:latin typeface="Swiss 721 Narrow SWA"/>
              </a:rPr>
              <a:t>Création d’une autorité de réglementation du sect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Image 9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885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f1e25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I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ous-titre 2"/>
          <p:cNvSpPr/>
          <p:nvPr/>
        </p:nvSpPr>
        <p:spPr>
          <a:xfrm>
            <a:off x="1897200" y="1469880"/>
            <a:ext cx="6408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Swiss 721 Narrow SWA"/>
              </a:rPr>
              <a:t>1.1 – DIFFERENTS TEXTES REGISSANT LE SECTEUR DE L’ELECTRI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0000"/>
                </a:solidFill>
                <a:latin typeface="Swiss 721 Narrow SWA"/>
              </a:rPr>
              <a:t>Sur le Plan nation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 domaine d’application de la loi 2000-012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a loi sur le secteur de l’électricité s’applique aux</a:t>
            </a:r>
            <a:r>
              <a:rPr b="1" lang="fr-FR" sz="1400" spc="-1" strike="noStrike">
                <a:solidFill>
                  <a:srgbClr val="000000"/>
                </a:solidFill>
                <a:latin typeface="Swiss 721 Narrow SWA"/>
              </a:rPr>
              <a:t> activités de production, de transport et de distribution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d’énergie électrique y compris les activités d’importation et d’exportation exercées sur le territoire national de la République togolai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Toutefois, elle dispose que sont exclus de la réglementation nationale, « les activités, les équipements, les infrastructures et installations électriques sur le territoire de la République togolaise </a:t>
            </a:r>
            <a:r>
              <a:rPr b="1" lang="fr-FR" sz="1400" spc="-1" strike="noStrike">
                <a:solidFill>
                  <a:srgbClr val="000000"/>
                </a:solidFill>
                <a:latin typeface="Swiss 721 Narrow SWA"/>
              </a:rPr>
              <a:t>qui appartiennent à ou qui sont exploités par toute institution de coopération bilatérale ou multilatérale 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En conséquence, la Communauté Electrique du Bénin </a:t>
            </a:r>
            <a:r>
              <a:rPr b="1" lang="fr-FR" sz="1400" spc="-1" strike="noStrike">
                <a:solidFill>
                  <a:srgbClr val="ff0000"/>
                </a:solidFill>
                <a:latin typeface="Swiss 721 Narrow SWA"/>
              </a:rPr>
              <a:t>(CEB)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échappe à toute législation nationale et n’est soumise qu’aux dispositions du Code bénino-togolais de l’électricit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Image 14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893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f1e25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V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3"/>
          <p:cNvSpPr/>
          <p:nvPr/>
        </p:nvSpPr>
        <p:spPr>
          <a:xfrm>
            <a:off x="1492200" y="1268280"/>
            <a:ext cx="37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Swiss 721 Narrow SWA"/>
              </a:rPr>
              <a:t>1.2 – ACTEURS DU SEC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Ellipse 2"/>
          <p:cNvSpPr/>
          <p:nvPr/>
        </p:nvSpPr>
        <p:spPr>
          <a:xfrm>
            <a:off x="2260440" y="3389400"/>
            <a:ext cx="5038920" cy="2082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Image 15" descr="C:\Users\toshiba\Desktop\téléchargement.jpg"/>
          <p:cNvPicPr/>
          <p:nvPr/>
        </p:nvPicPr>
        <p:blipFill>
          <a:blip r:embed="rId2"/>
          <a:stretch/>
        </p:blipFill>
        <p:spPr>
          <a:xfrm>
            <a:off x="4313160" y="2965320"/>
            <a:ext cx="669960" cy="87660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3" descr="CEB"/>
          <p:cNvPicPr/>
          <p:nvPr/>
        </p:nvPicPr>
        <p:blipFill>
          <a:blip r:embed="rId3"/>
          <a:stretch/>
        </p:blipFill>
        <p:spPr>
          <a:xfrm>
            <a:off x="4361040" y="5315040"/>
            <a:ext cx="1044360" cy="6030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6" descr="Logo_CEET"/>
          <p:cNvPicPr/>
          <p:nvPr/>
        </p:nvPicPr>
        <p:blipFill>
          <a:blip r:embed="rId4"/>
          <a:stretch/>
        </p:blipFill>
        <p:spPr>
          <a:xfrm>
            <a:off x="6999120" y="4030560"/>
            <a:ext cx="600120" cy="762120"/>
          </a:xfrm>
          <a:prstGeom prst="rect">
            <a:avLst/>
          </a:prstGeom>
          <a:ln w="0">
            <a:noFill/>
          </a:ln>
        </p:spPr>
      </p:pic>
      <p:pic>
        <p:nvPicPr>
          <p:cNvPr id="902" name="Image 1" descr="Contour Glob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93800" y="4105440"/>
            <a:ext cx="1131840" cy="61092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16" descr=""/>
          <p:cNvPicPr/>
          <p:nvPr/>
        </p:nvPicPr>
        <p:blipFill>
          <a:blip r:embed="rId7"/>
          <a:stretch/>
        </p:blipFill>
        <p:spPr>
          <a:xfrm>
            <a:off x="3575160" y="3948120"/>
            <a:ext cx="1407960" cy="768240"/>
          </a:xfrm>
          <a:prstGeom prst="rect">
            <a:avLst/>
          </a:prstGeom>
          <a:ln w="0">
            <a:noFill/>
          </a:ln>
        </p:spPr>
      </p:pic>
      <p:sp>
        <p:nvSpPr>
          <p:cNvPr id="904" name="ZoneTexte 1"/>
          <p:cNvSpPr/>
          <p:nvPr/>
        </p:nvSpPr>
        <p:spPr>
          <a:xfrm>
            <a:off x="2692440" y="3489480"/>
            <a:ext cx="833400" cy="505440"/>
          </a:xfrm>
          <a:prstGeom prst="rect">
            <a:avLst/>
          </a:prstGeom>
          <a:solidFill>
            <a:srgbClr val="b5e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Swiss 721 Narrow SWA"/>
              </a:rPr>
              <a:t>Convention de Conc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ZoneTexte 15"/>
          <p:cNvSpPr/>
          <p:nvPr/>
        </p:nvSpPr>
        <p:spPr>
          <a:xfrm>
            <a:off x="5999040" y="5078520"/>
            <a:ext cx="8334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Swiss 721 Narrow SWA"/>
              </a:rPr>
              <a:t>P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ZoneTexte 16"/>
          <p:cNvSpPr/>
          <p:nvPr/>
        </p:nvSpPr>
        <p:spPr>
          <a:xfrm>
            <a:off x="2825640" y="5151600"/>
            <a:ext cx="835200" cy="246240"/>
          </a:xfrm>
          <a:prstGeom prst="rect">
            <a:avLst/>
          </a:prstGeom>
          <a:solidFill>
            <a:srgbClr val="f3a2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Swiss 721 Narrow SWA"/>
              </a:rPr>
              <a:t>P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ZoneTexte 15"/>
          <p:cNvSpPr/>
          <p:nvPr/>
        </p:nvSpPr>
        <p:spPr>
          <a:xfrm>
            <a:off x="5875200" y="3429000"/>
            <a:ext cx="835200" cy="703080"/>
          </a:xfrm>
          <a:prstGeom prst="rect">
            <a:avLst/>
          </a:prstGeom>
          <a:solidFill>
            <a:srgbClr val="b5e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Swiss 721 Narrow SWA"/>
              </a:rPr>
              <a:t>Contrat d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ZoneTexte 5"/>
          <p:cNvSpPr/>
          <p:nvPr/>
        </p:nvSpPr>
        <p:spPr>
          <a:xfrm>
            <a:off x="5186520" y="4205160"/>
            <a:ext cx="1106280" cy="459000"/>
          </a:xfrm>
          <a:prstGeom prst="rect">
            <a:avLst/>
          </a:prstGeom>
          <a:solidFill>
            <a:srgbClr val="afb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SOM-MA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ZoneTexte 22"/>
          <p:cNvSpPr/>
          <p:nvPr/>
        </p:nvSpPr>
        <p:spPr>
          <a:xfrm>
            <a:off x="5032440" y="1941480"/>
            <a:ext cx="1438200" cy="459000"/>
          </a:xfrm>
          <a:prstGeom prst="rect">
            <a:avLst/>
          </a:prstGeom>
          <a:solidFill>
            <a:srgbClr val="ead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TRES AC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Connecteur droit avec flèche 23"/>
          <p:cNvCxnSpPr/>
          <p:nvPr/>
        </p:nvCxnSpPr>
        <p:spPr>
          <a:xfrm flipH="1">
            <a:off x="4882320" y="2357280"/>
            <a:ext cx="769320" cy="712080"/>
          </a:xfrm>
          <a:prstGeom prst="straightConnector1">
            <a:avLst/>
          </a:prstGeom>
          <a:ln w="28440">
            <a:solidFill>
              <a:srgbClr val="d5a7b1"/>
            </a:solidFill>
            <a:miter/>
            <a:tailEnd len="med" type="triangle" w="med"/>
          </a:ln>
        </p:spPr>
      </p:cxnSp>
      <p:pic>
        <p:nvPicPr>
          <p:cNvPr id="911" name="Image 30" descr="ZA101091671033.jpg"/>
          <p:cNvPicPr/>
          <p:nvPr/>
        </p:nvPicPr>
        <p:blipFill>
          <a:blip r:embed="rId8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16" descr=""/>
          <p:cNvPicPr/>
          <p:nvPr/>
        </p:nvPicPr>
        <p:blipFill>
          <a:blip r:embed="rId9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913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f1e25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V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Connecteur droit avec flèche 26"/>
          <p:cNvCxnSpPr/>
          <p:nvPr/>
        </p:nvCxnSpPr>
        <p:spPr>
          <a:xfrm>
            <a:off x="4735440" y="4435200"/>
            <a:ext cx="424800" cy="1080"/>
          </a:xfrm>
          <a:prstGeom prst="straightConnector1">
            <a:avLst/>
          </a:prstGeom>
          <a:ln w="28440">
            <a:solidFill>
              <a:srgbClr val="2da2b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7" name="Connecteur droit avec flèche 41"/>
          <p:cNvCxnSpPr>
            <a:endCxn id="901" idx="1"/>
          </p:cNvCxnSpPr>
          <p:nvPr/>
        </p:nvCxnSpPr>
        <p:spPr>
          <a:xfrm>
            <a:off x="6292800" y="4398840"/>
            <a:ext cx="707040" cy="13680"/>
          </a:xfrm>
          <a:prstGeom prst="straightConnector1">
            <a:avLst/>
          </a:prstGeom>
          <a:ln w="28440">
            <a:solidFill>
              <a:srgbClr val="2da2bf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ous-titre 2"/>
          <p:cNvSpPr/>
          <p:nvPr/>
        </p:nvSpPr>
        <p:spPr>
          <a:xfrm>
            <a:off x="1835280" y="1844640"/>
            <a:ext cx="612144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64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000"/>
                </a:solidFill>
                <a:latin typeface="Swiss 721 Narrow SWA"/>
              </a:rPr>
              <a:t>REGLEMENTATION SPECIFIQUE SUR LES ENERGIES RENOUVELABLE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 Togo n’a pas une </a:t>
            </a:r>
            <a:r>
              <a:rPr b="1" lang="fr-FR" sz="1400" spc="-1" strike="noStrike">
                <a:solidFill>
                  <a:srgbClr val="0070c0"/>
                </a:solidFill>
                <a:latin typeface="Swiss 721 Narrow SWA"/>
              </a:rPr>
              <a:t>loi spécifique applicable 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aux énergies renouvelables ni à l’efficacité énergé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a loi 2000-012 du 18 juillet 2000 relative au secteur de l’électricité, définit la  </a:t>
            </a:r>
            <a:r>
              <a:rPr b="1" lang="fr-FR" sz="1400" spc="-1" strike="noStrike">
                <a:solidFill>
                  <a:srgbClr val="0070c0"/>
                </a:solidFill>
                <a:latin typeface="Swiss 721 Narrow SWA"/>
              </a:rPr>
              <a:t>production d’énergie électrique comme étant un processus de conversion de toute source d’énergie, quelle qu’en soit la forme,</a:t>
            </a: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 en énergie électriqu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Dans ce cas, les productions d’énergie électrique à base d’énergie renouvelable sont mises en œuvre conformément à cette lo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Cette réglementation en vigueur n’a prévu aucune mesure d’accompagnement des projets EnR et E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82880" indent="-182880" algn="just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Image 8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923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d3c4a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V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Image 6" descr="i-bande bas3.jpg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5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ous-titre 2"/>
          <p:cNvSpPr/>
          <p:nvPr/>
        </p:nvSpPr>
        <p:spPr>
          <a:xfrm>
            <a:off x="1835280" y="1628640"/>
            <a:ext cx="6913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81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Swiss 721 Narrow SWA"/>
              </a:rPr>
              <a:t>DIFFERENTS REGIMES D’EXPLOITATION DES INSTALLATIONS ELECTRIQUES PREVUS PAR LA REG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31480" indent="-231480" algn="just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Deux régimes sont prévus et sous lesquels peuvent être exploitées les installations électriques (production, transport, distribution, etc. 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70c0"/>
                </a:solidFill>
                <a:latin typeface="Swiss 721 Narrow SWA"/>
              </a:rPr>
              <a:t>Régime d’autorisation qui concern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64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s installations de production d’énergie électrique pour la revente au public  quelle que soit la puissance installée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64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64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s installations de production destinées à la consommation propre de son propriétaire et dont la puissance installée est supérieure à 500 K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70c0"/>
                </a:solidFill>
                <a:latin typeface="Swiss 721 Narrow SWA"/>
              </a:rPr>
              <a:t>Régime de la déclaration pour 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464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’exploitation des installations de production destinées à la consommation propre de son propriétaire  et dont la puissance installée est inférieure ou égale à  500 k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Les contrats d’achat/vente d’énergie électrique sont signés par les concessionnaires avec l’acheteur unique (la CEB) conformément à la réglementation en vigue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Swiss 721 Narrow SW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Image 8" descr="ZA101091671033.jpg"/>
          <p:cNvPicPr/>
          <p:nvPr/>
        </p:nvPicPr>
        <p:blipFill>
          <a:blip r:embed="rId2"/>
          <a:stretch/>
        </p:blipFill>
        <p:spPr>
          <a:xfrm>
            <a:off x="0" y="-12600"/>
            <a:ext cx="1422360" cy="6870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6" descr=""/>
          <p:cNvPicPr/>
          <p:nvPr/>
        </p:nvPicPr>
        <p:blipFill>
          <a:blip r:embed="rId3"/>
          <a:stretch/>
        </p:blipFill>
        <p:spPr>
          <a:xfrm>
            <a:off x="0" y="5934240"/>
            <a:ext cx="1422360" cy="923760"/>
          </a:xfrm>
          <a:prstGeom prst="rect">
            <a:avLst/>
          </a:prstGeom>
          <a:ln w="0">
            <a:noFill/>
          </a:ln>
        </p:spPr>
      </p:pic>
      <p:sp>
        <p:nvSpPr>
          <p:cNvPr id="931" name="Sous-titre 2"/>
          <p:cNvSpPr/>
          <p:nvPr/>
        </p:nvSpPr>
        <p:spPr>
          <a:xfrm>
            <a:off x="203040" y="393840"/>
            <a:ext cx="2847960" cy="62856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 – CADRE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ous-titre 2"/>
          <p:cNvSpPr/>
          <p:nvPr/>
        </p:nvSpPr>
        <p:spPr>
          <a:xfrm>
            <a:off x="3051000" y="393840"/>
            <a:ext cx="2670480" cy="62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d3c4a"/>
                </a:solidFill>
                <a:latin typeface="Swiss 721 Narrow SWA"/>
              </a:rPr>
              <a:t>II –REGLEMENTATION SUR L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ous-titre 2"/>
          <p:cNvSpPr/>
          <p:nvPr/>
        </p:nvSpPr>
        <p:spPr>
          <a:xfrm>
            <a:off x="5721480" y="393840"/>
            <a:ext cx="2954160" cy="62856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rmAutofit/>
          </a:bodyPr>
          <a:p>
            <a:pPr marL="446040" indent="-4460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70c0"/>
                </a:solidFill>
                <a:latin typeface="Swiss 721 Narrow SWA"/>
              </a:rPr>
              <a:t>III – REFORMES ENVISA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1:09:06Z</dcterms:created>
  <dc:creator>AIEC13</dc:creator>
  <dc:description/>
  <dc:language>en-US</dc:language>
  <cp:lastModifiedBy>ABDOULAYE Abbas</cp:lastModifiedBy>
  <cp:lastPrinted>2015-11-24T18:27:59Z</cp:lastPrinted>
  <dcterms:modified xsi:type="dcterms:W3CDTF">2015-11-25T08:52:23Z</dcterms:modified>
  <cp:revision>773</cp:revision>
  <dc:subject/>
  <dc:title>STRATEGIE DU GOUVERNEMENT POUR LA STABILISATION DE LA FOURNITURE D’ENERGIE ELECTRIQUE</dc:title>
</cp:coreProperties>
</file>